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CBA-4AA6-4FDC-9369-31DA6E9F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749-2C5D-45A4-AC2A-1D3AF195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FEB-76E5-4558-BBA0-8714F18B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719-C278-4C93-AADF-DA7C0A85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A1A-E50D-4DC1-8A4D-E880F2CC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798-2239-442C-9B1A-1D54D487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C74-8B40-4F30-9C66-62620497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2CF-9E65-4EDD-9D3E-19FD9929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AB9-DAEF-4EF6-8FBD-A543161F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588-6915-41BD-B4DF-A031D614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FB6-77AE-44D8-8DB0-47279F51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57C-49D0-4588-8D16-AE318CC4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637B-DD84-485B-8583-C142BD9D3E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2438280"/>
            <a:ext cx="7772400" cy="32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гра "Молчанка"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4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8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9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0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1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2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3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4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5"/>
          <p:cNvSpPr txBox="1"/>
          <p:nvPr/>
        </p:nvSpPr>
        <p:spPr>
          <a:xfrm>
            <a:off x="3581280" y="457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7"/>
          <p:cNvSpPr txBox="1"/>
          <p:nvPr/>
        </p:nvSpPr>
        <p:spPr>
          <a:xfrm>
            <a:off x="6400800" y="33526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2971800" y="510552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1676520" y="1523880"/>
            <a:ext cx="1447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2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086600" y="1523880"/>
            <a:ext cx="1447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5"/>
          <p:cNvSpPr txBox="1"/>
          <p:nvPr/>
        </p:nvSpPr>
        <p:spPr>
          <a:xfrm>
            <a:off x="7391520" y="35812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5"/>
          <p:cNvSpPr txBox="1"/>
          <p:nvPr/>
        </p:nvSpPr>
        <p:spPr>
          <a:xfrm>
            <a:off x="6477120" y="525780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914400" y="54100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14479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581280" y="53352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5715000" y="129528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6477120" y="3276720"/>
            <a:ext cx="914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4952880" y="4952880"/>
            <a:ext cx="137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743200" y="5029200"/>
            <a:ext cx="152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37160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1905120" y="15238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0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25"/>
          <p:cNvSpPr txBox="1"/>
          <p:nvPr/>
        </p:nvSpPr>
        <p:spPr>
          <a:xfrm>
            <a:off x="5105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25"/>
          <p:cNvSpPr txBox="1"/>
          <p:nvPr/>
        </p:nvSpPr>
        <p:spPr>
          <a:xfrm>
            <a:off x="7391520" y="1676520"/>
            <a:ext cx="1523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7467480" y="3886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25"/>
          <p:cNvSpPr txBox="1"/>
          <p:nvPr/>
        </p:nvSpPr>
        <p:spPr>
          <a:xfrm>
            <a:off x="6553080" y="54100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25"/>
          <p:cNvSpPr txBox="1"/>
          <p:nvPr/>
        </p:nvSpPr>
        <p:spPr>
          <a:xfrm>
            <a:off x="609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0" y="22096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685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1828800" y="1371600"/>
            <a:ext cx="1066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25"/>
          <p:cNvSpPr txBox="1"/>
          <p:nvPr/>
        </p:nvSpPr>
        <p:spPr>
          <a:xfrm>
            <a:off x="7924680" y="3886200"/>
            <a:ext cx="914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4952880" y="4952880"/>
            <a:ext cx="14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6"/>
          <p:cNvSpPr txBox="1"/>
          <p:nvPr/>
        </p:nvSpPr>
        <p:spPr>
          <a:xfrm>
            <a:off x="1600200" y="1371600"/>
            <a:ext cx="1676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7543800" y="3733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43000" y="2666880"/>
            <a:ext cx="7086600" cy="289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627200"/>
            <a:ext cx="875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04:58Z</dcterms:created>
  <dc:creator>Шаповаловы</dc:creator>
  <dc:description/>
  <dc:language>en-US</dc:language>
  <cp:lastModifiedBy>Я</cp:lastModifiedBy>
  <dcterms:modified xsi:type="dcterms:W3CDTF">2012-02-24T14:49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